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3.png" ContentType="image/png"/>
  <Override PartName="/ppt/media/image24.jpeg" ContentType="image/jpe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7E92-354A-44E9-8695-41F729421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E7D2-235C-4022-8FFD-3B6FC95C5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F042-BDF6-4B38-A08E-529A0A549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265A-E3B1-4124-845A-00150387B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E001-8E2D-44BC-9F42-83FA3047E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DE0A-8C57-43C4-94DC-D481FEF91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F1FF-E354-41C6-84D5-39C9EB6FF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BD74-888B-463A-84AB-A8553D911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CF3C-ADF9-488F-B377-CF4DA0EFD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5BCC-0E55-4F5B-8C44-52667132E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14E5-27D8-4330-9602-25EEE2A7E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FA8C-A0C7-40C9-B43B-9591E5598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EC7F4-CB2A-4117-81C4-C090BBFA7A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21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4400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RDEER                                            ARDEER                                           ARDEER                                      ARDEER  150TH                        ARDEER MILLENNIUM                        ARDEER  REC.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116160"/>
            <a:ext cx="1005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RDEER  REC                            ARDEER  REC.  50TH.                     ARDEER  REC  75TH                                 ARDROSSAN                                ARDROSSAN                                ARDROSS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7926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RDROSSAN                              ARDROSSAN  150TH              ARDROSSAN  MILLENNIUM                   BEECHAM  WORKS                                BEITH                                              BEI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469200"/>
            <a:ext cx="1005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EITH  100TH                                      BEITH  125TH                 BLACKLANDS  &amp;  DISTRICT                       BLACKLANDS                           BLACKLANDS  25TH                              DAL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60520" y="620640"/>
            <a:ext cx="1242720" cy="863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16160" y="549360"/>
            <a:ext cx="933480" cy="950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728880" y="476280"/>
            <a:ext cx="987480" cy="996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6753240" y="476280"/>
            <a:ext cx="950760" cy="987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8265960" y="333360"/>
            <a:ext cx="970200" cy="1120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704880" y="2133720"/>
            <a:ext cx="914400" cy="1009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2144880" y="1628640"/>
            <a:ext cx="1087200" cy="1527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5313240" y="2276640"/>
            <a:ext cx="987480" cy="8776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9"/>
          <a:stretch/>
        </p:blipFill>
        <p:spPr>
          <a:xfrm>
            <a:off x="6753240" y="2276640"/>
            <a:ext cx="987480" cy="882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0"/>
          <a:stretch/>
        </p:blipFill>
        <p:spPr>
          <a:xfrm>
            <a:off x="8193240" y="2205000"/>
            <a:ext cx="1006200" cy="951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1"/>
          <a:stretch/>
        </p:blipFill>
        <p:spPr>
          <a:xfrm>
            <a:off x="631800" y="3645000"/>
            <a:ext cx="1152720" cy="1143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2"/>
          <a:stretch/>
        </p:blipFill>
        <p:spPr>
          <a:xfrm>
            <a:off x="2289240" y="3933720"/>
            <a:ext cx="987480" cy="892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3"/>
          <a:stretch/>
        </p:blipFill>
        <p:spPr>
          <a:xfrm>
            <a:off x="3873600" y="3789360"/>
            <a:ext cx="804600" cy="9730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4"/>
          <a:stretch/>
        </p:blipFill>
        <p:spPr>
          <a:xfrm>
            <a:off x="5313240" y="3789360"/>
            <a:ext cx="1043280" cy="10335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5"/>
          <a:stretch/>
        </p:blipFill>
        <p:spPr>
          <a:xfrm>
            <a:off x="6753240" y="3716280"/>
            <a:ext cx="987480" cy="1047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6"/>
          <a:stretch/>
        </p:blipFill>
        <p:spPr>
          <a:xfrm>
            <a:off x="704880" y="5229360"/>
            <a:ext cx="1006560" cy="1215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7"/>
          <a:stretch/>
        </p:blipFill>
        <p:spPr>
          <a:xfrm>
            <a:off x="2289240" y="5300640"/>
            <a:ext cx="1006560" cy="1133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8"/>
          <a:stretch/>
        </p:blipFill>
        <p:spPr>
          <a:xfrm>
            <a:off x="3728880" y="5445000"/>
            <a:ext cx="1024200" cy="10242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9"/>
          <a:stretch/>
        </p:blipFill>
        <p:spPr>
          <a:xfrm>
            <a:off x="5168880" y="5373720"/>
            <a:ext cx="1206360" cy="1143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0"/>
          <a:stretch/>
        </p:blipFill>
        <p:spPr>
          <a:xfrm>
            <a:off x="6681960" y="5157720"/>
            <a:ext cx="1116000" cy="13255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1"/>
          <a:stretch/>
        </p:blipFill>
        <p:spPr>
          <a:xfrm>
            <a:off x="3728880" y="1773360"/>
            <a:ext cx="1017720" cy="1312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2"/>
          <a:stretch/>
        </p:blipFill>
        <p:spPr>
          <a:xfrm>
            <a:off x="8265960" y="3716280"/>
            <a:ext cx="976320" cy="10857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3"/>
          <a:stretch/>
        </p:blipFill>
        <p:spPr>
          <a:xfrm>
            <a:off x="8193240" y="5373720"/>
            <a:ext cx="1130040" cy="1108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4"/>
          <a:stretch/>
        </p:blipFill>
        <p:spPr>
          <a:xfrm>
            <a:off x="5240160" y="692280"/>
            <a:ext cx="104796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5T15:54:34Z</dcterms:created>
  <dc:creator>JOHN YOUNG</dc:creator>
  <dc:description/>
  <dc:language>en-US</dc:language>
  <cp:lastModifiedBy>JY</cp:lastModifiedBy>
  <cp:lastPrinted>1999-12-13T15:13:31Z</cp:lastPrinted>
  <dcterms:modified xsi:type="dcterms:W3CDTF">2007-04-04T18:38:31Z</dcterms:modified>
  <cp:revision>25</cp:revision>
  <dc:subject/>
  <dc:title>No Slide Title</dc:title>
</cp:coreProperties>
</file>